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BF5-442F-4AEE-869B-769DB389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12E-2F07-4449-8663-DF405D9A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E90-68F8-4A36-A31A-4746F230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2D6-3B64-4687-B43B-3B51DC6B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E41-2E81-4920-92AB-3059C63C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585-B15A-49E1-8B10-0C88BE05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A5F-EC59-4318-AD0E-1E3F63B3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077-3DA5-47D9-8131-58DC3589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232-C801-4593-8C25-F2F03222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1FC-CC43-4DF2-9F95-DC9958D8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494-C82C-48B6-BECF-8E43256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AE2-4A44-47B0-BFC9-CFA07501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BEAE-69CE-4D15-850A-ED0AD160A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hool.discoveryeducation.com/clipart/clip/inchworm.html" TargetMode="External"/><Relationship Id="rId2" Type="http://schemas.openxmlformats.org/officeDocument/2006/relationships/hyperlink" Target="http://school.discoveryeducation.com/clipart/clip/inchworm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 R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xRuler0_0.jpg.pagespeed.ic.lyDSysvfXg" descr="Wooden Inch Ruler"/>
          <p:cNvPicPr/>
          <p:nvPr/>
        </p:nvPicPr>
        <p:blipFill>
          <a:blip r:embed="rId3"/>
          <a:srcRect l="0" t="0" r="0" b="36378"/>
          <a:stretch/>
        </p:blipFill>
        <p:spPr>
          <a:xfrm>
            <a:off x="380880" y="3200400"/>
            <a:ext cx="8229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xRuler0_0.jpg.pagespeed.ic.lyDSysvfXg" descr="Wooden Inch Ruler"/>
          <p:cNvPicPr/>
          <p:nvPr/>
        </p:nvPicPr>
        <p:blipFill>
          <a:blip r:embed="rId1"/>
          <a:srcRect l="0" t="0" r="0" b="35157"/>
          <a:stretch/>
        </p:blipFill>
        <p:spPr>
          <a:xfrm>
            <a:off x="0" y="34290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36-408097765" descr=""/>
          <p:cNvPicPr/>
          <p:nvPr/>
        </p:nvPicPr>
        <p:blipFill>
          <a:blip r:embed="rId2"/>
          <a:srcRect l="0" t="0" r="7899" b="0"/>
          <a:stretch/>
        </p:blipFill>
        <p:spPr>
          <a:xfrm>
            <a:off x="-228600" y="1219320"/>
            <a:ext cx="2895480" cy="1755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5680" y="53341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9760" y="68580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xRulerArrow.jpg.pagespeed.ic.0WHc_oVMJU" descr=""/>
          <p:cNvPicPr/>
          <p:nvPr/>
        </p:nvPicPr>
        <p:blipFill>
          <a:blip r:embed="rId3"/>
          <a:stretch/>
        </p:blipFill>
        <p:spPr>
          <a:xfrm>
            <a:off x="1676520" y="2895480"/>
            <a:ext cx="380880" cy="422280"/>
          </a:xfrm>
          <a:prstGeom prst="rect">
            <a:avLst/>
          </a:prstGeom>
          <a:ln w="0">
            <a:noFill/>
          </a:ln>
        </p:spPr>
      </p:pic>
      <p:pic>
        <p:nvPicPr>
          <p:cNvPr id="50" name="xRulerArrow.jpg.pagespeed.ic.0WHc_oVMJU" descr=""/>
          <p:cNvPicPr/>
          <p:nvPr/>
        </p:nvPicPr>
        <p:blipFill>
          <a:blip r:embed="rId4"/>
          <a:stretch/>
        </p:blipFill>
        <p:spPr>
          <a:xfrm>
            <a:off x="2057400" y="2895480"/>
            <a:ext cx="380880" cy="422280"/>
          </a:xfrm>
          <a:prstGeom prst="rect">
            <a:avLst/>
          </a:prstGeom>
          <a:ln w="0">
            <a:noFill/>
          </a:ln>
        </p:spPr>
      </p:pic>
      <p:pic>
        <p:nvPicPr>
          <p:cNvPr id="51" name="xRulerArrow.jpg.pagespeed.ic.0WHc_oVMJU" descr=""/>
          <p:cNvPicPr/>
          <p:nvPr/>
        </p:nvPicPr>
        <p:blipFill>
          <a:blip r:embed="rId5"/>
          <a:stretch/>
        </p:blipFill>
        <p:spPr>
          <a:xfrm>
            <a:off x="2438280" y="2895480"/>
            <a:ext cx="381240" cy="422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249960" y="533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3960" y="304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1880" y="304920"/>
            <a:ext cx="59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1880" y="304920"/>
            <a:ext cx="59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880" y="304920"/>
            <a:ext cx="59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xRulerArrow.jpg.pagespeed.ic.0WHc_oVMJU" descr=""/>
          <p:cNvPicPr/>
          <p:nvPr/>
        </p:nvPicPr>
        <p:blipFill>
          <a:blip r:embed="rId6"/>
          <a:stretch/>
        </p:blipFill>
        <p:spPr>
          <a:xfrm>
            <a:off x="1371600" y="2895480"/>
            <a:ext cx="380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21:38:47Z</dcterms:created>
  <dc:creator>Dekalb County School</dc:creator>
  <dc:description/>
  <dc:language>en-US</dc:language>
  <cp:lastModifiedBy>Dekalb County School</cp:lastModifiedBy>
  <dcterms:modified xsi:type="dcterms:W3CDTF">2012-03-27T04:17:27Z</dcterms:modified>
  <cp:revision>12</cp:revision>
  <dc:subject/>
  <dc:title>Using a Ruler</dc:title>
</cp:coreProperties>
</file>